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62C-47AE-44D6-B285-ADF268D0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C1F-DDC1-4DF4-A671-E72E4244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8FC-A3DE-46C7-BADB-49545674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627-118F-48DD-837E-118AAB97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F7C-E6AF-4965-B9DA-CFA3C0BB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BB0-34BA-41EB-B743-83E40BC8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D60-2A37-4A00-B8C7-D4DECE37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D23-144D-46C7-8EEE-8AFBC41A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21C-86C5-4FCC-BE2A-FC89CC98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91E-B405-4023-9C24-3D8F241A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7E4-4E22-405F-AFA1-299B05C4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152-995D-43E7-A284-572579F9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642F-0008-4FF7-9E54-357068456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fr.wikipedia.org/wiki/A&#233;roport_de_Marseille_Provence" TargetMode="External"/><Relationship Id="rId3" Type="http://schemas.openxmlformats.org/officeDocument/2006/relationships/hyperlink" Target="http://fr.wikipedia.org/wiki/A&#233;roport_de_Marseille_Provence" TargetMode="External"/><Relationship Id="rId4" Type="http://schemas.openxmlformats.org/officeDocument/2006/relationships/hyperlink" Target="http://fr.wikipedia.org/wiki/A&#233;roport_de_Marseille_Provence" TargetMode="External"/><Relationship Id="rId5" Type="http://schemas.openxmlformats.org/officeDocument/2006/relationships/hyperlink" Target="http://fr.wikipedia.org/wiki/A&#233;roport_de_Marseille_Provence" TargetMode="External"/><Relationship Id="rId6" Type="http://schemas.openxmlformats.org/officeDocument/2006/relationships/hyperlink" Target="http://fr.wikipedia.org/wiki/A&#233;roport_de_Marseille_Provence" TargetMode="External"/><Relationship Id="rId7" Type="http://schemas.openxmlformats.org/officeDocument/2006/relationships/hyperlink" Target="http://fr.wikipedia.org/wiki/A&#233;roport_de_Marseille_Provence" TargetMode="External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 u="sng">
                <a:solidFill>
                  <a:srgbClr val="000000"/>
                </a:solidFill>
                <a:uFillTx/>
                <a:latin typeface="Arial"/>
              </a:rPr>
              <a:t>Marseil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Palais</a:t>
            </a: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Longch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chier:Marseille Palais Longchamp At Night JD 22052007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VD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Musé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Le Musée d’Histoire de Marseille 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ichier:Maison diamantée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Le musée du Vieux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Le Musée d'art contempor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Entrez sur l'annuaire SPORTS IN MARSEIL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BouillabaisseThaiStyle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4675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ouillabais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Pa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84360" y="14619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Bour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90600" y="1881360"/>
            <a:ext cx="476280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a monna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Le Tran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Arial"/>
              </a:rPr>
              <a:t>Mètr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74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mw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9999"/>
                </a:solidFill>
                <a:latin typeface="Arial"/>
              </a:rPr>
              <a:t>L'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éroport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ternational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arseille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Provence</a:t>
            </a:r>
            <a:r>
              <a:rPr b="0" lang="es-ES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Arial"/>
              </a:rPr>
              <a:t>Le Vieux-Port 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’abbaye 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Saint-Victor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ile:Notre Dame de la Gar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La Basilique de Notre Dame de la Garde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9:34:24Z</dcterms:created>
  <dc:creator>Anii</dc:creator>
  <dc:description/>
  <dc:language>en-US</dc:language>
  <cp:lastModifiedBy>papa</cp:lastModifiedBy>
  <dcterms:modified xsi:type="dcterms:W3CDTF">2011-04-13T23:52:40Z</dcterms:modified>
  <cp:revision>4</cp:revision>
  <dc:subject/>
  <dc:title>Marseille</dc:title>
</cp:coreProperties>
</file>